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65F-BC1F-4D70-89B8-12EF8FB4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CE4-C12B-4158-B964-90A2164D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9659-53CD-4401-ADAF-E8F744BC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D79-179F-4603-BF99-E9D52688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0919-AE0C-4F2B-9CA1-408EB35F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925-9A4B-47F9-8A6F-AF451434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048-F791-4DEA-A4B7-8B12202B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FAD-F860-48ED-B8FC-FDC46E32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9A26-D68E-45C2-BFBD-D56A5B95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BEC0-6018-43DD-9CFD-C63DE5DB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7C7-C355-456F-8461-829435D8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ADF-7D5C-408E-9211-6B3963E9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2C06-404D-4685-84DF-D9C4B605D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09468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1:08:17Z</dcterms:created>
  <dc:creator>Laura</dc:creator>
  <dc:description/>
  <dc:language>en-US</dc:language>
  <cp:lastModifiedBy>Laura</cp:lastModifiedBy>
  <dcterms:modified xsi:type="dcterms:W3CDTF">2010-03-16T01:09:19Z</dcterms:modified>
  <cp:revision>1</cp:revision>
  <dc:subject/>
  <dc:title>Slide 1</dc:title>
</cp:coreProperties>
</file>